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FD9-679D-40D9-85D7-BEB763B9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7CF-A88F-43FF-94FF-E56E125A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41D-6096-4E35-A95D-73FD705C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A84-97E7-4297-AC4E-B8C610EA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9C10-7B3A-4D89-AA2E-666C7541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340B-ACDA-459C-8A2E-3B82545E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7681-D1D5-4910-9742-35F7B5E6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3053-B6B9-4671-ABFA-EA6D308B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C572-8E16-4180-97DB-061F6CF8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4513-424E-404E-B8EE-9EAE2C93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9954-AA00-49C8-B24B-6AEC74DC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A0E-ABF0-47FE-9C5D-9704D8CF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5500-E37D-463E-BE3F-A934D4A9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23FF-BC6B-4996-A5A4-FD1AF5F3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93A3-DFD2-469F-B856-47623A51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F0D7-D03C-40E2-9F4F-09A5E425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3D93-1AE6-455E-BA2C-EC7F2F46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C55A3-DEC8-4BB6-BEA4-33DEDE06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102DD-78C3-477D-AF43-D97B2AC6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31A79-D9EB-40E7-8AC2-61ACFE8D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B6136-A41F-4A8A-8C89-AF11DC92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A6BDD-A262-4661-B9E3-5C75B43F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349-8A0B-4EEB-AC22-471E4C9D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909AE-95A5-4FC5-8749-4B9AD013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9D86A-A087-495A-9DA6-457D8A2C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A21F3-11B9-4CEB-B6D2-FFB422F9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823BF-87FB-47EA-87AA-F925F65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E6336-5D66-4651-B834-D0DDBA17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8A7D2-E1BA-480D-977D-FD8791BE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C92FC-DECD-4C8F-9A6E-6D4FB9EA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8869-55B9-4C2A-9E13-29D26D3D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8E5B-3E41-42B0-A66D-DEB653FE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DF3C-477B-4C37-A7CD-8FCEB45C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613-4455-49DF-939D-E3CBFA5B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05C93-3A0E-4ADA-A6E0-1B9FBAB0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9E3B3-9897-44BB-AA1A-9581AC17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50DE-69D9-49F6-AFBC-6628F4A3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8CA26-3097-4890-8CE9-E656A5CD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A4E0-DE82-4EE3-9AB3-ACD6BCE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CEAB-AFCA-48E5-93A6-91478685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8E5B-C842-4226-82BD-40D3AFA9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1FE0-16A0-4778-9C69-B946760E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325BF-DD44-46D3-AFC9-B6299730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1AA93-3DCA-4A63-B078-F78FC85D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E8A-A0AD-4CE0-9F6F-F676D98C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F9E26-FB2D-412B-80B0-1C7D3B32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F9598-DDB3-4B23-A553-F3B263BC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E7394-3F96-4185-82C5-A9EAD92C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A45DB-17F6-4070-B762-60728F8E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C897A-CCA2-492F-9FED-082A5BA3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52C75-4C12-4C2C-BBD0-759DF35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7BFD9-5187-4C06-8AAB-2338840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45B6F-012D-4576-850B-BFD57499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BF639-007B-4942-B2F1-D3D8A1DE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8DA9C-3B11-4E2D-94F6-B6701F46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94F-E4AE-4989-83E1-4F0AACB7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CE239-E98F-49CD-AD8B-BE599942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4D89A-A957-4AD9-861E-423A3791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6CC15-D0DF-48E8-BC7D-DC367383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D869A-ED09-4F8D-B040-DA305E3A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29B88-2DA5-4DCA-B7C2-CC8168C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35939-7C97-4CEA-A9AA-9EB73F9F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67FCF-43E2-4340-BDD7-7DECB934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CE4A3-08AB-4786-A7D7-3B8FF299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94BF4-48BC-4143-A561-9D08015F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418C2-5E84-48F5-9445-2D6989AA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AA8-A3B1-4B05-8DD0-8354493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2EF6D-D0B2-49F5-ADF3-044935D8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D024C-6429-430E-8E81-4FCCEDD8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081357-F8C6-4224-803D-F7F28AC8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DF5ED-9666-4C10-A178-BFD0AD0C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44EF7-5D88-4F0A-AAB9-1166A99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A65AB-1F35-458E-8F46-0D6F20F2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3407D-95D7-4F2A-B306-8106096E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0B26D-01B7-41DE-BB2B-EDB3D0C6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202A8-7B35-4897-AD66-7B2051A1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A08EC-6C83-4B6D-B39D-9171E43D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6ED-C8FB-4987-91D3-FCB12BD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C1FB9-B1E7-49B7-AAF4-491126CE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9AF3A-2349-419B-B600-C013584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B2789-8021-4D2B-8003-3783A00E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A924A-9B2B-4AD2-AE4C-80AC000A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B9331D-C699-4760-8525-6689AB93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1C81C-CAE2-4BF6-961D-7A4A39B4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2AC38-9561-414C-9F65-44B9E9C6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8C52E-DF5D-4E43-B48B-B043EA1F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5069C-3617-4DFA-B26F-578321A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FDDBB-DD8C-4B9F-8646-86DE5D2B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A2F-A50B-430E-818B-1DE1D10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A7B6F-DB2F-4FF2-9228-22D88F65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93673-9F94-4716-9842-452C4513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43696-83C6-4D51-A6A0-B79591F3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FA3EB-2F4E-425A-9D08-6E17771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5B8CD-0A6F-457A-BB98-2ABA9E08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A823E-5307-438A-9BAE-14B05B7B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C83D-D2E4-470F-A026-475B1F0E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3875-DDF9-4FB4-B8AC-56385954E661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6AD3-FE47-4944-9BF7-7D1F8A6190EA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6957-0B75-4B7C-A534-B0114D1F146A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D304-2186-4E35-AF9F-58C3082B6871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E145-5B78-4EE5-BBDF-9A46C0F6DB92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F987-08C1-4693-8CDF-E62FD5EB8421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FCEE-8E31-4158-BB3B-CA3253B07FB1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4626-E21B-4DC2-A5BD-D3A0B3172311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500" spc="-1" strike="noStrike" u="sng">
                <a:solidFill>
                  <a:srgbClr val="575f6d"/>
                </a:solidFill>
                <a:uFillTx/>
                <a:latin typeface="Century Schoolbook"/>
              </a:rPr>
              <a:t>LA VOZ DEL DÍA</a:t>
            </a:r>
            <a:br>
              <a:rPr sz="5500"/>
            </a:br>
            <a:r>
              <a:rPr b="1" lang="es-MX" sz="2400" spc="-1" strike="noStrike">
                <a:solidFill>
                  <a:srgbClr val="a6a6a6"/>
                </a:solidFill>
                <a:latin typeface="Century Schoolbook"/>
              </a:rPr>
              <a:t>15 DE FEBRERO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835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Schoolbook"/>
              </a:rPr>
              <a:t>¡Mi hermana 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Schoolbook"/>
              </a:rPr>
              <a:t>un extraterrestre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Schoolbook"/>
              </a:rPr>
              <a:t>Los habitantes de Villarriba siguen hoy atónitos, tras las declaraciones de un niño de10 años, vecino de la localidad, que afirma que su hermana es un extraterrestr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En una entrevista exclusiva con la Voz del Día, Enrique García cuenta su historia.  Enrique dio a conocer la noticia después de que su hermana se negase a ayudarle con sus deberes, pero ha desmentido rumores segú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11" descr="http://st-listas.20minutos.es/images/2012-01/318021/3357002_249px.jpg?1327343713"/>
          <p:cNvPicPr/>
          <p:nvPr/>
        </p:nvPicPr>
        <p:blipFill>
          <a:blip r:embed="rId1"/>
          <a:stretch/>
        </p:blipFill>
        <p:spPr>
          <a:xfrm>
            <a:off x="4979880" y="2243160"/>
            <a:ext cx="3640320" cy="343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54:53Z</dcterms:created>
  <dc:creator>Laboratorio Matutino</dc:creator>
  <dc:description/>
  <dc:language>en-US</dc:language>
  <cp:lastModifiedBy>Yadira</cp:lastModifiedBy>
  <dcterms:modified xsi:type="dcterms:W3CDTF">2013-02-17T11:45:54Z</dcterms:modified>
  <cp:revision>8</cp:revision>
  <dc:subject/>
  <dc:title>La voz el día 15 de diciembre</dc:title>
</cp:coreProperties>
</file>